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901-B936-461A-99EE-CC73C79E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E4B-D1E3-4139-AE4D-0C756E51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5801-26E0-4E00-8912-A0F9B1B1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21C-1FC7-4883-9F78-7622DC19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CE34-9A6C-483F-9384-E5834A36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267A-A6F4-4215-9EF8-59756870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129A-D5FB-48CD-82FD-E2CA07F0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B04B-8FE6-43B6-B21A-23FE7D9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EB8A-0DA6-432D-B654-604D07FB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F416-7CD8-4525-B24E-D650D754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FAF0-0936-401D-9271-476F0AB4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1F4-0A59-478D-94FB-A25B1375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4458-DEC3-4159-98EE-46FDEB4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BA11-8B33-4FD6-A874-166268E3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8ECF-D4A2-4279-B5A0-211FC27B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2839-B9CF-4ED7-A552-0CFAA09A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740C-1D61-4049-AE95-B2C22B03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393-4FAB-4CF4-91DD-9A2B501B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BFC-BA9F-46A8-A662-8E9018B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9A4-8670-4848-BB5C-3E6B481B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EF7-7C2D-4D10-B2F7-860EB238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557-B1B1-4F75-AB9E-32F3F36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AEC-90AB-4E1F-982E-0B4243C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5C2-BEFF-41D2-AC06-4CB9DCF6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4A53-B1C4-4720-9273-F232A749CE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3853-5AE8-4DF1-B656-F9EBA2191B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ESCOLA ESTADUAL LUÍS VAZ DE CAMÕE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 IPEZAL - ANGÉLICA-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fª STE: Maria Eliana Ferreira Le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fª STE: Silvana Poliz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Comic Sans MS"/>
              </a:rPr>
              <a:t>Projeto: O Uso das tecnologias nas Práticas Pedagógica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ustific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jeto centrado nas dificuldades dos docentes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rar aos professores outras possibilidades na elaboração das aulas e melhor utilização dos vídeos do TV Escol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rar aos professores a importância deste projeto para seu conhecimento e melhor desempenho dos alun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xiliar o uso da tecnologia no dia-a-dia da escol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erecer capacitação aos professores com dificuldades na utilização dos recursos da ST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tar mudar a rotina da escola com aulas diferenciadas, procurando prender a atenção dos alunos ao conteúdo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ntivar a utilização dos vídeos do Programa TV Escola na intern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odolog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projeto terá duração de um mês com início no dia 08/06/2009 e término no dia 08/07/2009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odos os professores serão atendidos no período em que trabalham na escola, nas suas aulas atividade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rimeiramente o docente vai apontar suas maiores dificuldades e estas serão trabalhadas pelos professores da sala de tecnologia educacionais (PSTs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s horários de planejamento dos professores das salas de tecnologias educacionais serão marcados buscando atender o horário de planejamento dos professore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ste processo o professor será incentivado a utilizar as tecnologias na elaboração das aul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valiaçã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avaliação acontecerá no decorrer do curso, através dos planejamentos diários com o uso das tecnologias e melhoria da prática pedagógic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0728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0:11:53Z</dcterms:created>
  <dc:creator>STE Luis Vaz</dc:creator>
  <dc:description/>
  <dc:language>en-US</dc:language>
  <cp:lastModifiedBy>SEDMS</cp:lastModifiedBy>
  <dcterms:modified xsi:type="dcterms:W3CDTF">2009-08-06T11:25:59Z</dcterms:modified>
  <cp:revision>4</cp:revision>
  <dc:subject/>
  <dc:title>ESCOLA ESTADUAL LUÍS VAZ DE CAMÕES  IPEZAL - ANGÉLICA-MS</dc:title>
</cp:coreProperties>
</file>